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548-BAD8-4D28-B272-786620A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B1A-B694-4637-B55F-071D62D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3B8-DC97-4BD8-8B30-889CD7EE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F40-D652-4FBC-A665-6D5ED79F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9F0-4DD8-4A1A-9EC9-FBD53B92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7D30-13CD-44EA-90B7-1C13574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956-708C-4F8C-B4B0-790C0CD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56DF-59AD-4040-A79A-46FB11B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810C-9FFC-4688-A374-278E6790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3648-0DB6-429A-9F71-7427ECBE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607F-8C89-4E06-AD73-8812FF95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711-C823-4437-A3A8-7F04FFAD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C788-BF1C-4241-8E11-E063F36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C28-1E28-4C19-845F-F809EADC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417-FE4C-4CBF-B1AC-6FA821D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649-9784-4884-A2AA-F4E93D9E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523-3F0C-4BCA-A65D-F81035D0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BC8-169F-48F3-927F-E3439BD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769-7D90-49B7-ABA6-5E67B4C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27D-781E-4D1A-A15F-7166BA86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933-B5C7-4721-895C-F313865B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E2C-CE12-4E87-8D7E-689DAE9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9E3-DA91-41D4-90EB-B864B56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9ED-CA4C-4458-968E-ADBE737D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1F6-864B-4846-B8DD-8030A253B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D9A-F63A-4C95-B91B-567466CFF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Grade Gramm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elping verb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elps another verb to show an ac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and 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can be helping verb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when the subject is singu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when the subject is plural or I or you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m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been looking for a new recipe for chocolate cake.   Mom and Dad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en married for 8 yea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m, is, are, was, and were are also helping verbs (and linking verbs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wer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appy that they cam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dison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making her b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rison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w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going to the park yester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looking for the key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coming to the part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elping verb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elps another verb show ac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helping mom clean the hous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he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iting on m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oe and Ja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wer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standing in the rai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aking my sister to the doctor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ur teacher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w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hoping we would do well on our tes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h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given his dog a bath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ited an hour for the tickets to go on sal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28:09Z</dcterms:created>
  <dc:creator>GCSD</dc:creator>
  <dc:description/>
  <dc:language>en-US</dc:language>
  <cp:lastModifiedBy>teacher</cp:lastModifiedBy>
  <dcterms:modified xsi:type="dcterms:W3CDTF">2010-12-06T02:48:45Z</dcterms:modified>
  <cp:revision>4</cp:revision>
  <dc:subject/>
  <dc:title>Helping Verbs</dc:title>
</cp:coreProperties>
</file>